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291-25CD-49A9-B3AD-29C51586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90F-0CBB-4B1C-9022-61FBA982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45E-B225-47D8-AC53-03B07991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772-A240-4BDE-AD28-07FA6D5E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AB3-B6E4-4AC9-B365-EF5D7A6D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FCA-5FDA-4D37-99D8-48DC9FA0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A3A-F6E2-43FC-AE78-37206DB2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099-B8F3-4AD5-856E-2E4DBE4C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50E-EB1B-4C20-A8C2-1D6681E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2DF-E981-4E33-B44D-F0ABB4B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31C-67E8-4277-91AD-FAC2C6DC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727-B460-45AD-82A1-51A15207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4585-49E6-4854-8BA5-93C6C9193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pskelly</cp:lastModifiedBy>
  <cp:lastPrinted>2001-01-31T16:21:13Z</cp:lastPrinted>
  <dcterms:modified xsi:type="dcterms:W3CDTF">2008-01-30T19:25:38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